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0EE-AF43-4A1A-BAD9-3D77E1D6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EC2-D0B3-41C0-8DC4-A67BBE3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118-A55F-43D2-B2C9-CDFF7F49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60F-352E-4435-8243-2EA3B4F9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2DF-ECA9-4A3E-B434-60ACE4DB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55D-DCD8-4090-8F1A-816162E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A1E-AD66-448A-A962-3961F1ED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AC83-63C4-400A-8A99-B9AB34F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182C-F830-49FB-B747-78491C8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3E8-0BCA-4D05-9B90-EF5D63E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D169-9050-4672-9E7B-4C242EF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68D-D396-4071-B221-2C831A1A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822-13DE-4262-807D-8434DAA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E534-971B-4D0D-88C0-79758C3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BDC0-4D71-4F4A-B9FF-3BA9D073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D359-0703-4DBE-A61F-BB60F332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411-F5EC-4617-866A-1B7BE9F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A5-D7DF-4F6F-B985-6834738B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E23-09CA-4F6D-9F59-322F481F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67A-D801-478F-B582-693CAA0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67A-553E-4815-9FF9-26FD52E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46F-29DF-4F6A-8517-3D69812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431-BF25-4F84-92A7-1C63482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11D-A8D6-4850-8150-E99AC09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6B2-B170-4551-955D-6A8C65A6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E2AE-865B-4D3D-9FF9-4D2ADA0E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Conceptualizing Curriculum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ing at the instructional and the programmatic aspects of the curricu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t is important to distinguish between types of knowing and how much of what kind of learning is appropriate for a given situ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504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 need to think of the stuff of curriculum as skills to be learned, as well as facts, and you will see things to do as a teacher that might not have occurred to you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Lear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udy,Smith, and Burn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m’s Taxonomy of Educati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itehead – Rhythm of Educ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ce – feelings of excitement, enjoyment – Elementary school is the stage of ro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– getting to know the subject better – studying in detail – Second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tion – expanding the knowledge for other use – College an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runn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a “spiral curriculum”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should be organized in a spiral manner so that students continually build upon what they have already learn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grated Curriculu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iculum should be sequential and inter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only in school is math an isolated set of problems – in real life there are economic, engineering, and shopping and cooking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4:36Z</dcterms:created>
  <dc:creator>User</dc:creator>
  <dc:description/>
  <dc:language>en-US</dc:language>
  <cp:lastModifiedBy>Carlette Hardin</cp:lastModifiedBy>
  <dcterms:modified xsi:type="dcterms:W3CDTF">2005-10-09T00:51:54Z</dcterms:modified>
  <cp:revision>3</cp:revision>
  <dc:subject/>
  <dc:title>Conceptualizing Curriculum </dc:title>
</cp:coreProperties>
</file>